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10846080" cy="209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2514240"/>
            <a:ext cx="10846080" cy="610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599760" indent="-394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969840" indent="-394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327320" indent="-394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695600" indent="-394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063160" indent="-394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063160" indent="-394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063160" indent="-394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owerSchool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hat’s new? Parent Single Sign-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oming Wed, September 21, 2011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380880" y="-787320"/>
            <a:ext cx="59817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8680" tIns="0" bIns="0" anchor="ctr">
            <a:noAutofit/>
          </a:bodyPr>
          <a:p>
            <a:pPr marL="542880" indent="-485640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On or after Wed, Sept 21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2"/>
          <a:stretch/>
        </p:blipFill>
        <p:spPr>
          <a:xfrm>
            <a:off x="2654280" y="1854360"/>
            <a:ext cx="9055080" cy="31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80880" y="-787320"/>
            <a:ext cx="59817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8680" tIns="0" bIns="0" anchor="ctr">
            <a:noAutofit/>
          </a:bodyPr>
          <a:p>
            <a:pPr marL="542880" indent="-485640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On or after Wed, Sept 21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654280" y="1854360"/>
            <a:ext cx="9055080" cy="31492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"/>
          <p:cNvPicPr/>
          <p:nvPr/>
        </p:nvPicPr>
        <p:blipFill>
          <a:blip r:embed="rId3"/>
          <a:stretch/>
        </p:blipFill>
        <p:spPr>
          <a:xfrm>
            <a:off x="1231920" y="3073320"/>
            <a:ext cx="107949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2"/>
          <a:stretch/>
        </p:blipFill>
        <p:spPr>
          <a:xfrm>
            <a:off x="6794640" y="225360"/>
            <a:ext cx="5537160" cy="71690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3"/>
          <a:stretch/>
        </p:blipFill>
        <p:spPr>
          <a:xfrm>
            <a:off x="5486400" y="3098880"/>
            <a:ext cx="3276720" cy="1143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4"/>
          <a:stretch/>
        </p:blipFill>
        <p:spPr>
          <a:xfrm>
            <a:off x="9651960" y="3632040"/>
            <a:ext cx="1536840" cy="246384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5"/>
          <p:cNvSpPr/>
          <p:nvPr/>
        </p:nvSpPr>
        <p:spPr>
          <a:xfrm>
            <a:off x="723960" y="1371600"/>
            <a:ext cx="65404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8680" tIns="0" bIns="0" anchor="ctr">
            <a:noAutofit/>
          </a:bodyPr>
          <a:p>
            <a:pPr marL="542880" indent="-485640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On or after Wed, Sept 21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"/>
          <p:cNvPicPr/>
          <p:nvPr/>
        </p:nvPicPr>
        <p:blipFill>
          <a:blip r:embed="rId2"/>
          <a:stretch/>
        </p:blipFill>
        <p:spPr>
          <a:xfrm>
            <a:off x="5486400" y="3098880"/>
            <a:ext cx="3276720" cy="1143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"/>
          <p:cNvPicPr/>
          <p:nvPr/>
        </p:nvPicPr>
        <p:blipFill>
          <a:blip r:embed="rId3"/>
          <a:stretch/>
        </p:blipFill>
        <p:spPr>
          <a:xfrm>
            <a:off x="9651960" y="3632040"/>
            <a:ext cx="1536840" cy="246384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4"/>
          <p:cNvSpPr/>
          <p:nvPr/>
        </p:nvSpPr>
        <p:spPr>
          <a:xfrm>
            <a:off x="723960" y="1371600"/>
            <a:ext cx="65404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8680" tIns="0" bIns="0" anchor="ctr">
            <a:noAutofit/>
          </a:bodyPr>
          <a:p>
            <a:pPr marL="542880" indent="-485640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On or after Wed, Sept 21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97" name="Picture 5" descr=""/>
          <p:cNvPicPr/>
          <p:nvPr/>
        </p:nvPicPr>
        <p:blipFill>
          <a:blip r:embed="rId4"/>
          <a:stretch/>
        </p:blipFill>
        <p:spPr>
          <a:xfrm>
            <a:off x="5143680" y="2336760"/>
            <a:ext cx="646416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"/>
          <p:cNvPicPr/>
          <p:nvPr/>
        </p:nvPicPr>
        <p:blipFill>
          <a:blip r:embed="rId2"/>
          <a:stretch/>
        </p:blipFill>
        <p:spPr>
          <a:xfrm>
            <a:off x="5486400" y="3098880"/>
            <a:ext cx="3276720" cy="114300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3"/>
          <p:cNvSpPr/>
          <p:nvPr/>
        </p:nvSpPr>
        <p:spPr>
          <a:xfrm>
            <a:off x="723960" y="1371600"/>
            <a:ext cx="65404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8680" tIns="0" bIns="0" anchor="ctr">
            <a:noAutofit/>
          </a:bodyPr>
          <a:p>
            <a:pPr marL="542880" indent="-485640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On or after Wed, Sept 21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00" name="Picture 4" descr=""/>
          <p:cNvPicPr/>
          <p:nvPr/>
        </p:nvPicPr>
        <p:blipFill>
          <a:blip r:embed="rId3"/>
          <a:stretch/>
        </p:blipFill>
        <p:spPr>
          <a:xfrm>
            <a:off x="5143680" y="2336760"/>
            <a:ext cx="6464160" cy="34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69720" y="7365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arent Single Sign-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oming Wed, September 21, 2011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-360" y="-890640"/>
            <a:ext cx="6375240" cy="2208240"/>
          </a:xfrm>
          <a:prstGeom prst="rect">
            <a:avLst/>
          </a:prstGeom>
          <a:noFill/>
          <a:ln w="0">
            <a:noFill/>
          </a:ln>
        </p:spPr>
        <p:txBody>
          <a:bodyPr lIns="0" rIns="210600" tIns="0" bIns="0" anchor="b">
            <a:noAutofit/>
          </a:bodyPr>
          <a:p>
            <a:pPr marL="433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merican Typewriter"/>
                <a:ea typeface="Gill Sans"/>
              </a:rPr>
              <a:t>PowerSchool</a:t>
            </a:r>
            <a:endParaRPr b="0" lang="en-US" sz="68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17520" y="1650600"/>
            <a:ext cx="5740560" cy="2311560"/>
          </a:xfrm>
          <a:prstGeom prst="rect">
            <a:avLst/>
          </a:prstGeom>
          <a:noFill/>
          <a:ln w="0">
            <a:noFill/>
          </a:ln>
        </p:spPr>
        <p:txBody>
          <a:bodyPr lIns="0" rIns="58680" tIns="0" bIns="0" anchor="ctr">
            <a:normAutofit/>
          </a:bodyPr>
          <a:p>
            <a:pPr marL="542880" indent="-485640">
              <a:lnSpc>
                <a:spcPct val="9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Gill Sans"/>
              </a:rPr>
              <a:t>The “current” way to login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567" name="Picture 4" descr=""/>
          <p:cNvPicPr/>
          <p:nvPr/>
        </p:nvPicPr>
        <p:blipFill>
          <a:blip r:embed="rId2"/>
          <a:stretch/>
        </p:blipFill>
        <p:spPr>
          <a:xfrm>
            <a:off x="6324480" y="127080"/>
            <a:ext cx="6426360" cy="430524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1841400" y="4038480"/>
            <a:ext cx="10172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8680" tIns="0" bIns="0" anchor="ctr">
            <a:noAutofit/>
          </a:bodyPr>
          <a:p>
            <a:pPr marL="57240">
              <a:lnSpc>
                <a:spcPct val="90000"/>
              </a:lnSpc>
              <a:spcBef>
                <a:spcPts val="3200"/>
              </a:spcBef>
              <a:buClr>
                <a:srgbClr val="ffffff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Different login and password for each student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57240">
              <a:lnSpc>
                <a:spcPct val="90000"/>
              </a:lnSpc>
              <a:spcBef>
                <a:spcPts val="3200"/>
              </a:spcBef>
              <a:buClr>
                <a:srgbClr val="ffffff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Only one parent login - difficult to share with multiple parents/guardians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57240">
              <a:lnSpc>
                <a:spcPct val="90000"/>
              </a:lnSpc>
              <a:spcBef>
                <a:spcPts val="3200"/>
              </a:spcBef>
              <a:buClr>
                <a:srgbClr val="ffffff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If you forget the password, you have to contact school or find the handout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06440" y="736200"/>
            <a:ext cx="6540480" cy="6070680"/>
          </a:xfrm>
          <a:prstGeom prst="rect">
            <a:avLst/>
          </a:prstGeom>
          <a:noFill/>
          <a:ln w="0">
            <a:noFill/>
          </a:ln>
        </p:spPr>
        <p:txBody>
          <a:bodyPr lIns="0" rIns="58680" tIns="0" bIns="0" anchor="ctr">
            <a:normAutofit fontScale="98000"/>
          </a:bodyPr>
          <a:p>
            <a:pPr marL="531720" indent="-475920">
              <a:lnSpc>
                <a:spcPct val="90000"/>
              </a:lnSpc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Gill Sans"/>
              </a:rPr>
              <a:t>Coming Wed, Sept 2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Gill Sans"/>
              </a:rPr>
              <a:t>Parent Single Sign-On (SSO)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  <a:p>
            <a:pPr marL="531720" indent="-475920">
              <a:lnSpc>
                <a:spcPct val="90000"/>
              </a:lnSpc>
              <a:spcBef>
                <a:spcPts val="3200"/>
              </a:spcBef>
              <a:buClr>
                <a:srgbClr val="ffffff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Gill San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Gill Sans"/>
              </a:rPr>
              <a:t>All your students with one login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  <a:p>
            <a:pPr marL="531720" indent="-475920">
              <a:lnSpc>
                <a:spcPct val="90000"/>
              </a:lnSpc>
              <a:spcBef>
                <a:spcPts val="3200"/>
              </a:spcBef>
              <a:buClr>
                <a:srgbClr val="ffffff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Gill Sans"/>
              </a:rPr>
              <a:t>Each parent/guardian has their own login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  <a:p>
            <a:pPr marL="531720" indent="-475920">
              <a:lnSpc>
                <a:spcPct val="90000"/>
              </a:lnSpc>
              <a:spcBef>
                <a:spcPts val="3200"/>
              </a:spcBef>
              <a:buClr>
                <a:srgbClr val="ffffff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Gill Sans"/>
              </a:rPr>
              <a:t>You can set and recover your password yourself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2"/>
          <a:stretch/>
        </p:blipFill>
        <p:spPr>
          <a:xfrm>
            <a:off x="7124760" y="961920"/>
            <a:ext cx="5537160" cy="716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"/>
          <p:cNvPicPr/>
          <p:nvPr/>
        </p:nvPicPr>
        <p:blipFill>
          <a:blip r:embed="rId2"/>
          <a:stretch/>
        </p:blipFill>
        <p:spPr>
          <a:xfrm>
            <a:off x="6794640" y="225360"/>
            <a:ext cx="5537160" cy="7169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" descr=""/>
          <p:cNvPicPr/>
          <p:nvPr/>
        </p:nvPicPr>
        <p:blipFill>
          <a:blip r:embed="rId3"/>
          <a:stretch/>
        </p:blipFill>
        <p:spPr>
          <a:xfrm>
            <a:off x="4800600" y="4559400"/>
            <a:ext cx="2374920" cy="18540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"/>
          <p:cNvPicPr/>
          <p:nvPr/>
        </p:nvPicPr>
        <p:blipFill>
          <a:blip r:embed="rId4"/>
          <a:stretch/>
        </p:blipFill>
        <p:spPr>
          <a:xfrm>
            <a:off x="8852040" y="4991040"/>
            <a:ext cx="1650960" cy="15368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5"/>
          <p:cNvSpPr/>
          <p:nvPr/>
        </p:nvSpPr>
        <p:spPr>
          <a:xfrm>
            <a:off x="723960" y="1371600"/>
            <a:ext cx="65404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8680" tIns="0" bIns="0" anchor="ctr">
            <a:noAutofit/>
          </a:bodyPr>
          <a:p>
            <a:pPr marL="542880" indent="-485640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On or after Wed, Sept 21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1" descr=""/>
          <p:cNvPicPr/>
          <p:nvPr/>
        </p:nvPicPr>
        <p:blipFill>
          <a:blip r:embed="rId2"/>
          <a:stretch/>
        </p:blipFill>
        <p:spPr>
          <a:xfrm>
            <a:off x="2933640" y="-63360"/>
            <a:ext cx="9867960" cy="929628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241200" y="647640"/>
            <a:ext cx="27939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8680" tIns="0" bIns="0" anchor="ctr">
            <a:noAutofit/>
          </a:bodyPr>
          <a:p>
            <a:pPr marL="542880" indent="-485640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On or after Wed, Sept 21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520560" y="965160"/>
            <a:ext cx="342900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8680" tIns="0" bIns="0" anchor="ctr">
            <a:noAutofit/>
          </a:bodyPr>
          <a:p>
            <a:pPr marL="542880" indent="-485640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On or after Wed, Sept 21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2"/>
          <a:stretch/>
        </p:blipFill>
        <p:spPr>
          <a:xfrm>
            <a:off x="4572000" y="317520"/>
            <a:ext cx="7645320" cy="758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380880" y="-787320"/>
            <a:ext cx="59817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8680" tIns="0" bIns="0" anchor="ctr">
            <a:noAutofit/>
          </a:bodyPr>
          <a:p>
            <a:pPr marL="542880" indent="-485640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On or after Wed, Sept 21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0" name="Picture 3" descr=""/>
          <p:cNvPicPr/>
          <p:nvPr/>
        </p:nvPicPr>
        <p:blipFill>
          <a:blip r:embed="rId2"/>
          <a:stretch/>
        </p:blipFill>
        <p:spPr>
          <a:xfrm>
            <a:off x="1498680" y="1689120"/>
            <a:ext cx="965340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" descr=""/>
          <p:cNvPicPr/>
          <p:nvPr/>
        </p:nvPicPr>
        <p:blipFill>
          <a:blip r:embed="rId2"/>
          <a:stretch/>
        </p:blipFill>
        <p:spPr>
          <a:xfrm>
            <a:off x="1486080" y="1701720"/>
            <a:ext cx="9818640" cy="572796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3"/>
          <p:cNvSpPr/>
          <p:nvPr/>
        </p:nvSpPr>
        <p:spPr>
          <a:xfrm>
            <a:off x="380880" y="-787320"/>
            <a:ext cx="59817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8680" tIns="0" bIns="0" anchor="ctr">
            <a:noAutofit/>
          </a:bodyPr>
          <a:p>
            <a:pPr marL="542880" indent="-485640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On or after Wed, Sept 21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380880" y="-787320"/>
            <a:ext cx="59817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8680" tIns="0" bIns="0" anchor="ctr">
            <a:noAutofit/>
          </a:bodyPr>
          <a:p>
            <a:pPr marL="542880" indent="-485640">
              <a:lnSpc>
                <a:spcPct val="9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Gill Sans"/>
              </a:rPr>
              <a:t>On or after Wed, Sept 21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2"/>
          <a:stretch/>
        </p:blipFill>
        <p:spPr>
          <a:xfrm>
            <a:off x="2641680" y="1879560"/>
            <a:ext cx="8648640" cy="530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oger Sprik</cp:lastModifiedBy>
  <dcterms:modified xsi:type="dcterms:W3CDTF">2011-10-21T05:55:31Z</dcterms:modified>
  <cp:revision>1</cp:revision>
  <dc:subject/>
  <dc:title>PowerSchool</dc:title>
</cp:coreProperties>
</file>